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15E29-6D2D-4B38-8A02-E9C9A057A0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47B2C-8A82-4B2A-95AE-EA3A39783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8828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98920" y="123624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8828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98920" y="3436200"/>
            <a:ext cx="15336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186120"/>
            <a:ext cx="4757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108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18800" y="343620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18800" y="1236240"/>
            <a:ext cx="232452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3436200"/>
            <a:ext cx="476388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77640" y="1236240"/>
            <a:ext cx="4763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31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iki.laptop.org/images/6/6b/Power-button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iki.laptop.org/go/Image:Friends_key_f2_small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cbc3c7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828360" y="2209680"/>
            <a:ext cx="393120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How to Customize Your X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b3b3b3"/>
                </a:solidFill>
                <a:latin typeface="Arial"/>
              </a:rPr>
              <a:t>Product Manager Greg Sm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b3b3b3"/>
                </a:solidFill>
                <a:latin typeface="Arial"/>
              </a:rPr>
              <a:t>Learning &amp; Tech Assistant Julia Reynol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pgrading the XO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8640" y="685440"/>
            <a:ext cx="5297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test stable build is on the wiki home page. When a new major release is available it will be announced wid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a list of the latest stable image and timeframe of the next image see: http://wiki.laptop.org/go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you have a base image you need to choose the additional activities to include wit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on a USB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e with a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108000"/>
              </a:lnSpc>
              <a:spcAft>
                <a:spcPts val="108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iki.laptop.org/go/Customization_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4757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Upgrading the XO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76424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ert USB key with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old down four game keys + pow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ait for the XO to automatically 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he XO will automatically turn off, take out the USB key and turn it ba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heck build with ctrl-alt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Home view menu, click “About this X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mage:Power-b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80880"/>
            <a:ext cx="1218960" cy="8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Image:Friends key f2 small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95480"/>
            <a:ext cx="2379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ing the Languag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457200"/>
            <a:ext cx="533412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Open the terminal activ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h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vailable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s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4840" indent="-343080">
              <a:lnSpc>
                <a:spcPts val="36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panish/USA, English/US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n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trl-alt-er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tart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4757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ing the XO Color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8000" y="1236240"/>
            <a:ext cx="23047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7621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er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h col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available 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–s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-s color purple yellow light me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0" descr="Olpc_home"/>
          <p:cNvPicPr/>
          <p:nvPr/>
        </p:nvPicPr>
        <p:blipFill>
          <a:blip r:embed="rId1"/>
          <a:stretch/>
        </p:blipFill>
        <p:spPr>
          <a:xfrm>
            <a:off x="40384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bc3c7"/>
                </a:solidFill>
                <a:latin typeface="Arial"/>
              </a:rPr>
              <a:t>Change Your XO Name</a:t>
            </a:r>
            <a:endParaRPr b="1" lang="en-US" sz="24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52280" y="838080"/>
            <a:ext cx="518184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Open Ter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-control-panel -s ni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__________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ype new nick name after 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5" descr="http://regmedia.co.uk/2008/01/16/home.jpg"/>
          <p:cNvPicPr/>
          <p:nvPr/>
        </p:nvPicPr>
        <p:blipFill>
          <a:blip r:embed="rId1"/>
          <a:stretch/>
        </p:blipFill>
        <p:spPr>
          <a:xfrm>
            <a:off x="4114800" y="762120"/>
            <a:ext cx="1193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-186120"/>
            <a:ext cx="475776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bc3c7"/>
                </a:solidFill>
                <a:latin typeface="Arial"/>
              </a:rPr>
              <a:t>http://wiki.laptop.org/go/Sugar_Control_Panel</a:t>
            </a:r>
            <a:br>
              <a:rPr sz="2000"/>
            </a:br>
            <a:endParaRPr b="1" lang="en-US" sz="2000" spc="-1" strike="noStrike">
              <a:solidFill>
                <a:srgbClr val="cbc3c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08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8:31Z</dcterms:modified>
  <cp:revision>117</cp:revision>
  <dc:subject/>
  <dc:title>One Laptop per Child</dc:title>
</cp:coreProperties>
</file>